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862DA8-46C1-44F1-8113-782235BE5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BBFBA0-4133-47A1-9D22-74921EC46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21A2A8-FAB6-475B-B0E0-C38E17FE94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C8EF13-EEA2-4B2A-A739-B36E36CCD2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DF59E-8508-4B68-8385-1810EFF0D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EA05E-0EFF-4A36-B563-748782F88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49E4B-9695-422B-8F1E-0853CE603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99303-E551-4AA6-B483-4C1F1194F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053D1-2981-4BBC-8D67-5ACAB49AA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9EEFC-7047-4E64-91C0-AEC5C48B5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DAF06-4E2C-4E1D-BFA9-9E45F1E0F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7F9146-2F99-432B-B2E8-4C828D6BF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39B88-B6CC-44AE-BBF2-4CB6495D8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F6C73-A478-46A3-9DFA-E57A2EBF0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11AEF-086D-42C3-847C-7701694D5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C92C8-B607-4A25-95F6-636DD0165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27A51C-A451-465A-9D62-8785505A8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1B07B3-470E-417A-9E21-6BABC9729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EE99C4-81D7-441A-85CF-BD8C844E2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2F1F32-B2F5-466D-B122-2554DABAC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4BC9A1-3D1C-4CBA-A5BB-A45FBA2AF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550FF3-A815-43FD-A993-53B6948BF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618127-FF57-4D2F-949E-9F2F4FB47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427CC4-A569-490C-9A84-6D0FE4F94F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89C8-1311-452B-8238-11EE47394FF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8501-909D-41EE-8E0F-2DB30DBE659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640" y="2420640"/>
            <a:ext cx="7772400" cy="1469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Book Antiqua"/>
              </a:rPr>
              <a:t>Manchuria &amp; Abyssinia: Where it all went wrong for the league of nation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The league so far…</a:t>
            </a: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ad been set up due to the Treaty of Versailles</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Was meant to keep world peace, help out countries by solving disputes peaceably and helping them economically too, and ensure the terms of the treaty were kept to.</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ad mixed success in the 1920s:</a:t>
            </a:r>
            <a:endParaRPr b="0" lang="en-US" sz="2800" spc="-1" strike="noStrike">
              <a:solidFill>
                <a:srgbClr val="ffffff"/>
              </a:solidFill>
              <a:latin typeface="Tahoma"/>
            </a:endParaRPr>
          </a:p>
          <a:p>
            <a:pPr lvl="1" marL="713160" indent="-27432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Book Antiqua"/>
              </a:rPr>
              <a:t>Successes</a:t>
            </a:r>
            <a:r>
              <a:rPr b="0" lang="en-GB" sz="2400" spc="-1" strike="noStrike">
                <a:solidFill>
                  <a:srgbClr val="ffffff"/>
                </a:solidFill>
                <a:latin typeface="Book Antiqua"/>
              </a:rPr>
              <a:t> included the aaland islands (1921), upper silesia (1921), the economical crisis of austria &amp; hungary (1923) and the greek-bulgarian incident (1925), plus humanitarian aid work</a:t>
            </a:r>
            <a:endParaRPr b="0" lang="en-US" sz="2400" spc="-1" strike="noStrike">
              <a:solidFill>
                <a:srgbClr val="ffffff"/>
              </a:solidFill>
              <a:latin typeface="Tahoma"/>
            </a:endParaRPr>
          </a:p>
          <a:p>
            <a:pPr lvl="1" marL="713160" indent="-27432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Book Antiqua"/>
              </a:rPr>
              <a:t>Failures</a:t>
            </a:r>
            <a:r>
              <a:rPr b="0" lang="en-GB" sz="2400" spc="-1" strike="noStrike">
                <a:solidFill>
                  <a:srgbClr val="ffffff"/>
                </a:solidFill>
                <a:latin typeface="Book Antiqua"/>
              </a:rPr>
              <a:t> included Vilna (1920) and corfu (1923), plus the signing of various treaties without its consent.</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Manchuria, 1931-3</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bf25a"/>
                </a:solidFill>
                <a:latin typeface="Book Antiqua"/>
              </a:rPr>
              <a:t>Manchuria seen as part of China, but Japan owned the South Manchurian railway.</a:t>
            </a:r>
            <a:r>
              <a:rPr b="0" lang="en-GB" sz="2000" spc="-1" strike="noStrike">
                <a:solidFill>
                  <a:srgbClr val="ffffff"/>
                </a:solidFill>
                <a:latin typeface="Book Antiqua"/>
              </a:rPr>
              <a:t> </a:t>
            </a:r>
            <a:r>
              <a:rPr b="1" lang="en-GB" sz="2000" spc="-1" strike="noStrike">
                <a:solidFill>
                  <a:srgbClr val="ffffff"/>
                </a:solidFill>
                <a:latin typeface="Book Antiqua"/>
              </a:rPr>
              <a:t>Manchuria was an area rich in resources</a:t>
            </a:r>
            <a:r>
              <a:rPr b="0" lang="en-GB" sz="2000" spc="-1" strike="noStrike">
                <a:solidFill>
                  <a:srgbClr val="ffffff"/>
                </a:solidFill>
                <a:latin typeface="Book Antiqua"/>
              </a:rPr>
              <a:t> and coveted by both nations.</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In </a:t>
            </a:r>
            <a:r>
              <a:rPr b="0" lang="en-GB" sz="2000" spc="-1" strike="noStrike">
                <a:solidFill>
                  <a:srgbClr val="ebf25a"/>
                </a:solidFill>
                <a:latin typeface="Book Antiqua"/>
              </a:rPr>
              <a:t>1931</a:t>
            </a:r>
            <a:r>
              <a:rPr b="0" lang="en-GB" sz="2000" spc="-1" strike="noStrike">
                <a:solidFill>
                  <a:srgbClr val="ffffff"/>
                </a:solidFill>
                <a:latin typeface="Book Antiqua"/>
              </a:rPr>
              <a:t> officers of the </a:t>
            </a:r>
            <a:r>
              <a:rPr b="0" lang="en-GB" sz="2000" spc="-1" strike="noStrike">
                <a:solidFill>
                  <a:srgbClr val="ebf25a"/>
                </a:solidFill>
                <a:latin typeface="Book Antiqua"/>
              </a:rPr>
              <a:t>Kwantung Army of Japan</a:t>
            </a:r>
            <a:r>
              <a:rPr b="0" lang="en-GB" sz="2000" spc="-1" strike="noStrike">
                <a:solidFill>
                  <a:srgbClr val="ffffff"/>
                </a:solidFill>
                <a:latin typeface="Book Antiqua"/>
              </a:rPr>
              <a:t> staged an explosion on the railway line, near Mukden. This became known as the </a:t>
            </a:r>
            <a:r>
              <a:rPr b="0" lang="en-GB" sz="2000" spc="-1" strike="noStrike">
                <a:solidFill>
                  <a:srgbClr val="ebf25a"/>
                </a:solidFill>
                <a:latin typeface="Book Antiqua"/>
              </a:rPr>
              <a:t>Mukden incident</a:t>
            </a:r>
            <a:r>
              <a:rPr b="0" lang="en-GB" sz="2000" spc="-1" strike="noStrike">
                <a:solidFill>
                  <a:srgbClr val="ffffff"/>
                </a:solidFill>
                <a:latin typeface="Book Antiqua"/>
              </a:rPr>
              <a:t>.</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ebf25a"/>
                </a:solidFill>
                <a:latin typeface="Book Antiqua"/>
              </a:rPr>
              <a:t>Japan blamed China, and invaded</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he league issued an investigation, and in </a:t>
            </a:r>
            <a:r>
              <a:rPr b="0" lang="en-GB" sz="2000" spc="-1" strike="noStrike">
                <a:solidFill>
                  <a:srgbClr val="ebf25a"/>
                </a:solidFill>
                <a:latin typeface="Book Antiqua"/>
              </a:rPr>
              <a:t>1932 the Lytton Commission condemned Japa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However some members of the league sympathised with Japan’s efforts to restore order on the regio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bf25a"/>
                </a:solidFill>
                <a:latin typeface="Book Antiqua"/>
              </a:rPr>
              <a:t>After the league decided Japan was wrong, Japan left the league</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Due to the distance, it was very difficult to impose any kind of sanctions</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Japan went on to take over other areas of China</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Abyssinia, 1935</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Italy, after seeing the success of Japan in the Manchurian crisis, decided to invade Abyssinia</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They had two main motivations: 1) To seek revenge for defeat in a previous war 2) To gain more colonies in Africa- most other nations had colonies there, why shouldn’t they? It was located next to existing Italian colonies and would be an easy targe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Both Italy &amp; Abyssinia were members of the league</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France and Britain would have to stand strong in order to make Italy back down, but were reluctant as they saw Mussolini as a strong potential ally against Germany</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Abyssinia, continued…</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Laval (French foreign minister) and Mussolini met in Rome. They made secret agreements- Laval tried to win Mussolini’s friendship, but Mussolini interpreted this as an offer to do what he liked in Abyssinia. Hoare (GB foreign secretary) tried to warn Italy off invading Abyssinia.</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taly invaded 3</a:t>
            </a:r>
            <a:r>
              <a:rPr b="0" lang="en-GB" sz="2800" spc="-1" strike="noStrike" baseline="30000">
                <a:solidFill>
                  <a:srgbClr val="ffffff"/>
                </a:solidFill>
                <a:latin typeface="Book Antiqua"/>
              </a:rPr>
              <a:t>rd</a:t>
            </a:r>
            <a:r>
              <a:rPr b="0" lang="en-GB" sz="2800" spc="-1" strike="noStrike">
                <a:solidFill>
                  <a:srgbClr val="ffffff"/>
                </a:solidFill>
                <a:latin typeface="Book Antiqua"/>
              </a:rPr>
              <a:t> October 1935, and met no real competition from the poor Abyssinian forces.</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League condemned Italy and imposed sanctions, but did not close the Suez Canal, allowing supplies to still reach the Italian arm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The Hoare-Laval Plan</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Agreed  Abyssinia would be split up, with Italy gaining fertile lands.</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Abyssinia woul dbe much smaller, and consist of barren lands, plus the “corridor for camels”</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Details of the plan were leaked, and Hoare &amp; Laval had to resig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But damage had been done- everyone knew GB &amp; FR had been working to undermine the league’s apparently tough st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Book Antiqua"/>
              </a:rPr>
              <a:t>Abyssinia… how it ended…</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The league was powerless when its most important members were not committed</a:t>
            </a:r>
            <a:endParaRPr b="0" lang="en-US" sz="3200" spc="-1" strike="noStrike">
              <a:solidFill>
                <a:srgbClr val="ffffff"/>
              </a:solidFill>
              <a:latin typeface="Tahoma"/>
            </a:endParaRPr>
          </a:p>
          <a:p>
            <a:pPr marL="335880" indent="-3358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The Italians reached the capital of Abyssinia unchecked</a:t>
            </a:r>
            <a:endParaRPr b="0" lang="en-US" sz="3200" spc="-1" strike="noStrike">
              <a:solidFill>
                <a:srgbClr val="ffffff"/>
              </a:solidFill>
              <a:latin typeface="Tahoma"/>
            </a:endParaRPr>
          </a:p>
          <a:p>
            <a:pPr marL="335880" indent="-3358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The Abyssinian emperor fled and made a speech at the Assembly of the League of Nations, condemning how it had acted and summarizing the w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Book Antiqua"/>
              </a:rPr>
              <a:t>Why these events signalled the end for the league…</a:t>
            </a:r>
            <a:endParaRPr b="0" lang="en-US" sz="38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Book Antiqua"/>
              </a:rPr>
              <a:t>Manchuria showed weakness</a:t>
            </a:r>
            <a:r>
              <a:rPr b="0" lang="en-GB" sz="2400" spc="-1" strike="noStrike">
                <a:solidFill>
                  <a:srgbClr val="ffffff"/>
                </a:solidFill>
                <a:latin typeface="Book Antiqua"/>
              </a:rPr>
              <a:t>, but because of the distance it was easy for people to believe if such a problem came up closer to home, it would be dealt with effectively</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However, </a:t>
            </a:r>
            <a:r>
              <a:rPr b="1" lang="en-GB" sz="2400" spc="-1" strike="noStrike">
                <a:solidFill>
                  <a:srgbClr val="ffffff"/>
                </a:solidFill>
                <a:latin typeface="Book Antiqua"/>
              </a:rPr>
              <a:t>Abyssinia showed the league’s weakness even when the event was close at hand/local</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It demonstrated how </a:t>
            </a:r>
            <a:r>
              <a:rPr b="1" lang="en-GB" sz="2400" spc="-1" strike="noStrike">
                <a:solidFill>
                  <a:srgbClr val="ffffff"/>
                </a:solidFill>
                <a:latin typeface="Book Antiqua"/>
              </a:rPr>
              <a:t>uncommitted the leading members were-</a:t>
            </a:r>
            <a:r>
              <a:rPr b="0" lang="en-GB" sz="2400" spc="-1" strike="noStrike">
                <a:solidFill>
                  <a:srgbClr val="ffffff"/>
                </a:solidFill>
                <a:latin typeface="Book Antiqua"/>
              </a:rPr>
              <a:t> how they went behind the league’s back if they had some other agenda to fulfil, and did not take it seriously</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ook Antiqua"/>
              </a:rPr>
              <a:t>Therefore </a:t>
            </a:r>
            <a:r>
              <a:rPr b="1" lang="en-GB" sz="2400" spc="-1" strike="noStrike">
                <a:solidFill>
                  <a:srgbClr val="ffffff"/>
                </a:solidFill>
                <a:latin typeface="Book Antiqua"/>
              </a:rPr>
              <a:t>from then on no-one took the league seriously</a:t>
            </a:r>
            <a:r>
              <a:rPr b="0" lang="en-GB" sz="2400" spc="-1" strike="noStrike">
                <a:solidFill>
                  <a:srgbClr val="ffffff"/>
                </a:solidFill>
                <a:latin typeface="Book Antiqua"/>
              </a:rPr>
              <a:t>, and it lost all authori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cc"/>
                </a:solidFill>
                <a:latin typeface="Book Antiqua"/>
              </a:rPr>
              <a:t>Consequences of the league’s failures</a:t>
            </a:r>
            <a:endParaRPr b="0" lang="en-US" sz="38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bf25a"/>
                </a:solidFill>
                <a:latin typeface="Book Antiqua"/>
              </a:rPr>
              <a:t>The victims of aggression were left defenceless</a:t>
            </a:r>
            <a:r>
              <a:rPr b="0" lang="en-GB" sz="2800" spc="-1" strike="noStrike">
                <a:solidFill>
                  <a:srgbClr val="ffffff"/>
                </a:solidFill>
                <a:latin typeface="Book Antiqua"/>
              </a:rPr>
              <a:t> against powerful enemies like Italy- no security</a:t>
            </a:r>
            <a:endParaRPr b="0" lang="en-US" sz="2800" spc="-1" strike="noStrike">
              <a:solidFill>
                <a:srgbClr val="ffffff"/>
              </a:solidFill>
              <a:latin typeface="Tahoma"/>
            </a:endParaRPr>
          </a:p>
          <a:p>
            <a:pPr marL="318960" indent="-31896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bf25a"/>
                </a:solidFill>
                <a:latin typeface="Book Antiqua"/>
              </a:rPr>
              <a:t>The aggressors were effectively encouraged</a:t>
            </a:r>
            <a:r>
              <a:rPr b="0" lang="en-GB" sz="2800" spc="-1" strike="noStrike">
                <a:solidFill>
                  <a:srgbClr val="ffffff"/>
                </a:solidFill>
                <a:latin typeface="Book Antiqua"/>
              </a:rPr>
              <a:t> and realised they could get away with quite allot</a:t>
            </a:r>
            <a:endParaRPr b="0" lang="en-US" sz="2800" spc="-1" strike="noStrike">
              <a:solidFill>
                <a:srgbClr val="ffffff"/>
              </a:solidFill>
              <a:latin typeface="Tahoma"/>
            </a:endParaRPr>
          </a:p>
          <a:p>
            <a:pPr marL="318960" indent="-31896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Britain and France had to face up to the fact that </a:t>
            </a:r>
            <a:r>
              <a:rPr b="0" lang="en-GB" sz="2800" spc="-1" strike="noStrike">
                <a:solidFill>
                  <a:srgbClr val="ebf25a"/>
                </a:solidFill>
                <a:latin typeface="Book Antiqua"/>
              </a:rPr>
              <a:t>war was a very real possibility</a:t>
            </a:r>
            <a:r>
              <a:rPr b="0" lang="en-GB" sz="2800" spc="-1" strike="noStrike">
                <a:solidFill>
                  <a:srgbClr val="ffffff"/>
                </a:solidFill>
                <a:latin typeface="Book Antiqua"/>
              </a:rPr>
              <a:t>, and find new ways to deal with international aggression</a:t>
            </a:r>
            <a:endParaRPr b="0" lang="en-US" sz="2800" spc="-1" strike="noStrike">
              <a:solidFill>
                <a:srgbClr val="ffffff"/>
              </a:solidFill>
              <a:latin typeface="Tahoma"/>
            </a:endParaRPr>
          </a:p>
          <a:p>
            <a:pPr marL="318960" indent="-31896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bf25a"/>
                </a:solidFill>
                <a:latin typeface="Book Antiqua"/>
              </a:rPr>
              <a:t>The league of nation’s credibility was completely destroyed</a:t>
            </a:r>
            <a:r>
              <a:rPr b="0" lang="en-GB" sz="2800" spc="-1" strike="noStrike">
                <a:solidFill>
                  <a:srgbClr val="ffffff"/>
                </a:solidFill>
                <a:latin typeface="Book Antiqua"/>
              </a:rPr>
              <a:t>, and the idea that countries could stand together firmly to aid collective security was proved wro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3:57:40Z</dcterms:created>
  <dc:creator>Home</dc:creator>
  <dc:description/>
  <dc:language>en-US</dc:language>
  <cp:lastModifiedBy>Home</cp:lastModifiedBy>
  <dcterms:modified xsi:type="dcterms:W3CDTF">2008-05-31T14:36:35Z</dcterms:modified>
  <cp:revision>3</cp:revision>
  <dc:subject/>
  <dc:title>Manchuria &amp; Abyssinia: Where it all went wrong for the league of nations</dc:title>
</cp:coreProperties>
</file>